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A78-0082-43F1-8187-2ACC0C10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5422-8D6D-40D9-9435-BB3D94F2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B5D-661A-4F3A-ABBA-55F4C502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97C-2591-41CC-8A70-505687AE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CA7-60AD-4D49-B3EB-6880FA79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BE7-146B-45A9-9723-67455481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71B-F7F7-44E4-9C14-16282104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EB9-2E69-421D-BBAD-8DECE50A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1EF-D138-4C93-95C4-B3236EF5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87F-1B8B-43E6-96FC-13448899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083-1A1A-4618-AD62-6BE1D211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267-FE45-4ACA-852D-2A70B54C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1260-3F2B-47EF-8DB3-3A124239202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B3DB-12E0-47EC-AACA-6B2FA1197E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67320" cy="3667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9"/>
          <p:cNvSpPr/>
          <p:nvPr/>
        </p:nvSpPr>
        <p:spPr>
          <a:xfrm>
            <a:off x="573120" y="1197000"/>
            <a:ext cx="802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ем заполнен внутри мыльный пузыр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очему мыльный пузырь име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орму ш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может случиться с ни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если его выпустить в ок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641160" y="76500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 зависит давление газа от темпера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641160" y="76500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 зависит давление газа от темпера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5d-i3"/>
          <p:cNvPicPr/>
          <p:nvPr/>
        </p:nvPicPr>
        <p:blipFill>
          <a:blip r:embed="rId2"/>
          <a:stretch/>
        </p:blipFill>
        <p:spPr>
          <a:xfrm>
            <a:off x="611280" y="2421000"/>
            <a:ext cx="3671640" cy="2303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4443480" y="2492280"/>
            <a:ext cx="433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выше темп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за, тем бо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857520" y="62064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 зависит давление газа от част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даров молекул о стенки сос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857520" y="62064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 зависит давление газа от част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даров молекул о стенки сос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rcRect l="0" t="0" r="0" b="6475"/>
          <a:stretch/>
        </p:blipFill>
        <p:spPr>
          <a:xfrm>
            <a:off x="684360" y="2276640"/>
            <a:ext cx="2447640" cy="3240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3359880" y="2781360"/>
            <a:ext cx="558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тем больш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чаще и сильнее молеку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аряются о стенки сос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667320" cy="3667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250920" y="549360"/>
            <a:ext cx="76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ем заполнен внутри мыльный пузыр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очему мыльный пузырь име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орму ш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может случиться с ни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если его выпустить в ок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ая соединительная линия 8"/>
          <p:cNvSpPr/>
          <p:nvPr/>
        </p:nvSpPr>
        <p:spPr>
          <a:xfrm>
            <a:off x="1476360" y="1557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0"/>
          <p:cNvSpPr/>
          <p:nvPr/>
        </p:nvSpPr>
        <p:spPr>
          <a:xfrm>
            <a:off x="1476360" y="1557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3"/>
          <p:cNvSpPr/>
          <p:nvPr/>
        </p:nvSpPr>
        <p:spPr>
          <a:xfrm>
            <a:off x="1476360" y="2637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5"/>
          <p:cNvSpPr/>
          <p:nvPr/>
        </p:nvSpPr>
        <p:spPr>
          <a:xfrm>
            <a:off x="320364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7"/>
          <p:cNvSpPr/>
          <p:nvPr/>
        </p:nvSpPr>
        <p:spPr>
          <a:xfrm>
            <a:off x="320364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2"/>
          <p:cNvSpPr/>
          <p:nvPr/>
        </p:nvSpPr>
        <p:spPr>
          <a:xfrm>
            <a:off x="320364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25"/>
          <p:cNvSpPr/>
          <p:nvPr/>
        </p:nvSpPr>
        <p:spPr>
          <a:xfrm>
            <a:off x="3203640" y="2205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26"/>
          <p:cNvSpPr/>
          <p:nvPr/>
        </p:nvSpPr>
        <p:spPr>
          <a:xfrm>
            <a:off x="4356000" y="2637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7"/>
          <p:cNvSpPr/>
          <p:nvPr/>
        </p:nvSpPr>
        <p:spPr>
          <a:xfrm>
            <a:off x="4356000" y="1557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8"/>
          <p:cNvSpPr/>
          <p:nvPr/>
        </p:nvSpPr>
        <p:spPr>
          <a:xfrm>
            <a:off x="6084720" y="1557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9"/>
          <p:cNvSpPr/>
          <p:nvPr/>
        </p:nvSpPr>
        <p:spPr>
          <a:xfrm>
            <a:off x="435600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0"/>
          <p:cNvSpPr/>
          <p:nvPr/>
        </p:nvSpPr>
        <p:spPr>
          <a:xfrm>
            <a:off x="435600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32"/>
          <p:cNvSpPr/>
          <p:nvPr/>
        </p:nvSpPr>
        <p:spPr>
          <a:xfrm>
            <a:off x="378000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36"/>
          <p:cNvSpPr/>
          <p:nvPr/>
        </p:nvSpPr>
        <p:spPr>
          <a:xfrm>
            <a:off x="3708360" y="1773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8"/>
          <p:cNvSpPr/>
          <p:nvPr/>
        </p:nvSpPr>
        <p:spPr>
          <a:xfrm>
            <a:off x="363816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1842120" y="184464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008 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852480" y="3068640"/>
            <a:ext cx="72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а одинаковых сосуда соединены труб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дном из них находится газ под д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,008 Па, в другом молекулы г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уют (сосуд пустой). Каким ста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ление газа в сосудах, если открыть кран 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160800" cy="237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3029040" cy="302724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996640" y="3068640"/>
            <a:ext cx="29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Что общ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7375e"/>
                </a:solidFill>
                <a:latin typeface="Arial"/>
                <a:ea typeface="Arial"/>
              </a:rPr>
              <a:t>Давление газ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1570680" y="90792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ем создаётся давление г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570680" y="90792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ем создаётся давление г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348000" y="2708280"/>
            <a:ext cx="540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вление газа создаё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ударами молеку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 стенки сос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rcRect l="0" t="0" r="0" b="6475"/>
          <a:stretch/>
        </p:blipFill>
        <p:spPr>
          <a:xfrm>
            <a:off x="684360" y="2276640"/>
            <a:ext cx="2447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1211760" y="62064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ую форму принимает обол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оздушного шарика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211760" y="62064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ую форму принимает обол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оздушного шарика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05d-i1"/>
          <p:cNvPicPr/>
          <p:nvPr/>
        </p:nvPicPr>
        <p:blipFill>
          <a:blip r:embed="rId2"/>
          <a:stretch/>
        </p:blipFill>
        <p:spPr>
          <a:xfrm>
            <a:off x="684360" y="2708280"/>
            <a:ext cx="3600360" cy="1884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75080" y="2421000"/>
            <a:ext cx="4405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лочка приним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 шара, так как г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ит на все стенки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направлен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динак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778680" y="620640"/>
            <a:ext cx="75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происходит с давлением газа 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меньшении  (увеличении) объём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778680" y="620640"/>
            <a:ext cx="75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то происходит с давлением газа 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меньшении  (увеличении) объёма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2232000" cy="3306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508560" y="2492280"/>
            <a:ext cx="537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уменьшении объё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увеличив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при увеличении объё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9:59:45Z</dcterms:created>
  <dc:creator>дом</dc:creator>
  <dc:description>http://aida.ucoz.ru</dc:description>
  <dc:language>en-US</dc:language>
  <cp:lastModifiedBy>Tania Wolf</cp:lastModifiedBy>
  <dcterms:modified xsi:type="dcterms:W3CDTF">2013-01-29T20:15:06Z</dcterms:modified>
  <cp:revision>26</cp:revision>
  <dc:subject/>
  <dc:title>Слайд 1</dc:title>
</cp:coreProperties>
</file>